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D012-9A2A-4C1B-9205-E5C6A7707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4F37-AE52-4F1B-95C6-FC0DA77ADEA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32B-CBB4-4257-9907-0F311530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CBF-714E-406C-A84B-CEF3659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AF6D7-6AE4-4F93-AB42-171B3289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82F74-DE22-4D50-83AF-5733ECF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6D0D7-0599-4189-8943-210DF07A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70650-D7A3-4DD8-8ECD-1F85686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40E20-2C39-485B-BE9F-2D7350A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6F65E-8463-4998-87C0-3D983325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2BAC9-EBA9-4D19-8D5A-B520581D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60A36-0970-4977-8DFD-468D7BDC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4DAB5-AE12-40A9-AFD6-A4DABB8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292E8-E0BB-4236-9D03-32DF2A09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771-B7FA-48A7-B7DE-D081A8FF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3C5CF-7D14-4C05-9638-15684E2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E3D51-4565-4F38-B022-B6B04CD6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42BF0-A3B0-4D21-9156-24EBF96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3BDCA-5FEB-4E6C-AE36-DB6E1FC2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1E7FD-4175-43A7-A759-A19343D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61F70-674A-4D09-BCE2-5977734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7689C-A0C0-4471-8120-1A92B51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39E41-136A-4D6B-850A-3A0C0C2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888D4-7814-4723-A34F-4DA26C1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9BA3-78C6-4BAE-A384-E2495932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E71-6A8F-42A2-97B9-072F942B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C9068-4E24-41BF-9D7E-FB13DA93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6D249-6112-45B0-B890-88F9A9C0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CBD0F-7D4B-4F8F-8996-2BBB0D3C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59752-DCBE-4D65-B61B-D4D6819A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6155F-26BF-47C2-876A-EA7146C7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6AE0A-8904-4728-836E-0393B37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2636E-04A1-40D9-B0AE-197947E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D2435-E933-4BBF-BF48-6BE7DF28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2B5EC-E456-498F-BECD-A226D24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78037-09E1-4EE8-B958-77B4113C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D362-6198-4CA7-B6D3-6B994391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2CD38-EEB3-412E-8B16-51876F78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AD62B-D817-45A3-978B-FEBB4ED4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8B5C3-AC39-4148-BDED-E86DCE5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0D350-381C-490B-8462-99B943AF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4DDA3-EF12-4D70-953E-2B5944BD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946F0-9B30-4F60-98BB-A2E340BD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F47D1-5FCB-4FD6-A91B-F379B57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7C32E-AECD-4CC3-A809-CB3F824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77AF2-4E1F-49EE-AF2F-2020BC6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6C5C7-7B27-4319-9657-9ED3E691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393E-2B5E-467E-A5DE-77117B6B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18AD7-6F29-44DE-A4D2-3E0FF86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B3575-9C0C-43F2-A3B5-0DA15461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CA222-498A-4962-9E3D-0AC6530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6CB4-4834-4D6D-8D46-C3633ACE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D5CF1-B7A4-432E-A1C9-8F596C2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4E33-46B5-4274-AD75-D8C9CA35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B6C7-780E-4F15-9E6C-0F68E4F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229-29F6-483A-9374-E0131E01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D8A1-5A58-489D-A0D0-45B9EBBA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A25F-940D-441D-9B23-EEF8FCD0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B30-8CAE-488D-BF7C-330BB032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D041-34DD-4EBC-9FBA-CB201EE0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157-ABE8-4F01-9C3A-E25F20B3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519B-E647-4E80-8CF6-E718058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0BC8-FF14-4B38-8B71-0189EF91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7C14-3028-49E5-AAFC-4B697A29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030B-DD30-4407-A436-ECDBA91B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F93B-E56F-4193-A445-D1A2CAC2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2482-5CD6-478F-9C89-EBED62E3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5625-7D13-4C91-A284-9B0E16A4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828F-2F2C-4D48-AF2B-46E734F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91B-D563-4B36-8684-A4D095A3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0BCC-8DA2-404E-97CD-E8D7E0F1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B34C-7AE4-4AB1-A652-0E16B8A7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67D0-C5D5-4BF8-8571-4867262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1C64-7DB7-482C-A689-88775B2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A8E2-204A-4E8F-B404-6690C4F6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D4E8-B825-4967-B846-1D8872EB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A5DE6-643C-4834-A2F6-F700B7E1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01E9-D5E3-4C86-9526-D4BF630D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E91C-85D0-4920-9B4E-FC2A2FD7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30E0-A895-49FD-947E-0C14BCBD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868-F015-497E-8AF1-0CBB35DD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7E00-6BA4-40E5-9F63-A26123B6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3C26-3D3B-4FBE-A370-8195FB1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AEBC-16E4-48D5-925B-AB9E1AF0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AC8A-42AA-4732-8B3B-892C6868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36F6-02D7-4C1F-A0BE-B1D3BCF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AC26-1DE8-4661-9228-87048C3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CE57-0D5E-403C-A5AF-20F26670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00DF-34BF-457C-A663-37AADAAE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6890A-962B-4A6F-A69E-EAD07807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940E-C2CF-4F52-A5B9-73CBC4A7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676-2BE1-467E-B1B0-371F5EE1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D3A1-424B-474F-B0FF-A78E598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2545-0730-4E25-BD7D-EBB894D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D8EA-805D-4943-BA85-82829985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442D-F2BE-4186-A204-69DF8ED8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3FC3-91AA-4263-B4B9-6C9F7E33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F639-D359-4530-A38C-1E27CC53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E2C71-A734-404F-9E26-0E374CB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44F4-9FCB-4E4D-90BF-B8FBBDDC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11B8-5D1F-4C64-BBCC-DA0416A9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3645-317E-4D65-A26B-FCDD915F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B19-D685-4A5D-B97D-C41637D4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A13B-9A61-472A-8313-30066E8A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E3A9-28AD-4DAF-A1FC-8586370D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9F9E-97A8-4728-8045-ED15270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A630-DC09-4F9C-9A1D-3007286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971AD-CA9E-4207-92D9-0BA6E7B2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54C5-2C6A-4911-9FE1-68209D31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2897-7EF3-4CE2-A608-272C413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2DAF-D01D-4D3F-8C61-79D6FCC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D43C9-6FFC-43BC-BD42-7E13F705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391D9-94D9-41A1-8D3F-D5E74F8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B64-1987-4BAA-81C0-B3323A6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C41F-A697-40D8-BAED-136F2EF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9157F-AF05-4154-A8AE-C003ADE6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D8CF-C4E0-436B-9675-C6C54B7D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703DC-7B09-43C9-AE2E-1A4B0C94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D315-BD59-4F69-934E-0A6CBB5B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5AC6-2C1A-4105-8DEA-2EBD86FC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D7FDA-5992-4C59-8D40-C9E4C55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8AEF-5B56-4189-B7A2-F5E93B54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3D92-4E21-4AC9-BD41-944382B2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B688-9E37-4CB0-9F79-3E38EA3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DF9-59F9-41D8-8544-0C910FA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48C26-C1AE-4AB4-A345-3920842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C67A5-C3D8-4FB3-AC39-896F8AC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F3BAB-1378-489C-ADA6-0535B97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1B3F-AA00-4672-9DD9-246B8180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E9383-C35E-4117-BAD6-774CD362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CF98-1B36-4B6D-BB3E-280D64D0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13E2-D74E-44C7-B6F3-D41581F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085A5-C282-425D-A8C4-A0B66AA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3572-6EE8-4F61-9430-6389A6D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33332-3900-4BDC-A043-4B9C8FDF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BE4-53D1-498E-9D8A-A37394B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2A5D2-C5C4-4636-A09F-C5439A0F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A2ED5-A08D-465A-8C3B-C536597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00C9-D916-4DB6-BCEF-5BDF8CE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3FECA-C11F-4620-AE63-FB25411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28984-1A21-4348-BBD0-0EFB147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4086B-7D84-4A11-BA8B-13586BC4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57B8-0FDA-463F-AFE6-6FA283B6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2E5B4-3571-40AC-B295-3492BD8B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01F0C-8879-4600-8055-85A68BF7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AF097-925C-4D55-A57D-4A710C0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E26-756E-4FA2-A659-D04436D2F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83A-3746-4C30-9509-CAAC63A70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BB97-1CDD-4076-A992-8E7C1D6A9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FF78-FABD-4516-918C-9B07C96A2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F1E1-998C-4680-B554-FF7DDA3EB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719-A62F-4F49-A1B3-EDEAFD16A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FCF8-5B2E-4DB1-B9D6-44F2871B2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4B7-C199-4D6A-AEBB-E7C22602B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48BF-1759-429A-B601-F2513DD64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92E5-FAA8-435F-93E7-CD62DEC5C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B456-3696-4671-8C47-FD001AB3F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04CD-5334-42DD-8A33-FABA71EAA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AutoShape 90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AutoShape 91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6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AutoShape 92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1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AutoShape 101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AutoShape 102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AutoShape 103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AutoShape 104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7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AutoShape 105"/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2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AutoShape 106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AutoShape 107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AutoShape 108"/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3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AutoShape 109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8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3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4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9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4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5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0" y="380520"/>
            <a:ext cx="9372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3" name="Picture 8" descr="C:\Documents and Settings\rebecca\My Documents\My Pictures\dimeback.jpg"/>
          <p:cNvPicPr/>
          <p:nvPr/>
        </p:nvPicPr>
        <p:blipFill>
          <a:blip r:embed="rId1"/>
          <a:stretch/>
        </p:blipFill>
        <p:spPr>
          <a:xfrm>
            <a:off x="2971800" y="2911320"/>
            <a:ext cx="3809880" cy="369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838080" y="28346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dime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0" y="532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43275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685800" y="838080"/>
            <a:ext cx="784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0" name="Picture 13" descr="C:\Documents and Settings\rebecca\My Documents\My Pictures\quarter back.jpg"/>
          <p:cNvPicPr/>
          <p:nvPr/>
        </p:nvPicPr>
        <p:blipFill>
          <a:blip r:embed="rId1"/>
          <a:stretch/>
        </p:blipFill>
        <p:spPr>
          <a:xfrm>
            <a:off x="2666880" y="28954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447920" y="28328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quart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4349880" y="181620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051"/>
          <p:cNvSpPr/>
          <p:nvPr/>
        </p:nvSpPr>
        <p:spPr>
          <a:xfrm>
            <a:off x="0" y="22860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5" name="Picture 2052" descr="C:\Documents and Settings\rebecca\My Documents\My Pictures\nickel back.jpg"/>
          <p:cNvPicPr/>
          <p:nvPr/>
        </p:nvPicPr>
        <p:blipFill>
          <a:blip r:embed="rId1"/>
          <a:stretch/>
        </p:blipFill>
        <p:spPr>
          <a:xfrm>
            <a:off x="2590920" y="2895480"/>
            <a:ext cx="3962160" cy="363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447920" y="283608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nickel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762120" y="2649600"/>
            <a:ext cx="7619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228600" y="-228960"/>
            <a:ext cx="8915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403880" y="29559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533520" y="990720"/>
            <a:ext cx="807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3" name="Picture 12" descr="C:\Documents and Settings\rebecca\My Documents\My Pictures\pennyback.jpg"/>
          <p:cNvPicPr/>
          <p:nvPr/>
        </p:nvPicPr>
        <p:blipFill>
          <a:blip r:embed="rId1"/>
          <a:stretch/>
        </p:blipFill>
        <p:spPr>
          <a:xfrm>
            <a:off x="3276720" y="296244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0" y="266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penny.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0" y="456480"/>
            <a:ext cx="883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dime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556160" y="318456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609480" y="380880"/>
            <a:ext cx="7925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9" name="Picture 9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895480" y="3276720"/>
            <a:ext cx="3114720" cy="3085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222516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10 cents or 10 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914400" y="2776680"/>
            <a:ext cx="7543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371600" y="5328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is  coin called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1" name="Picture 7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2666880" y="3124080"/>
            <a:ext cx="3657600" cy="351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838080" y="-15300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quarter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457200" y="380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7" name="Picture 10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895480" y="3048120"/>
            <a:ext cx="3355920" cy="34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3429000" y="33526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1752480" y="1996560"/>
            <a:ext cx="583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25 cents or 25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838080" y="4564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nickel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3" name="Picture 4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2590920" y="281952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523880" y="2179080"/>
            <a:ext cx="6248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5 cents or 5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4438800" y="2833560"/>
            <a:ext cx="183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762120" y="-2293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a penny worth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9" name="Picture 4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2819520" y="2971800"/>
            <a:ext cx="376236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47920" y="28346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1 cent or 1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4478400" y="2955960"/>
            <a:ext cx="183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914400" y="456480"/>
            <a:ext cx="7238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4" name="Picture 3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590920" y="2895480"/>
            <a:ext cx="364788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1447920" y="2835360"/>
            <a:ext cx="6248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77640" y="2772720"/>
            <a:ext cx="300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ilv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066680" y="60876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quarter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0" name="Picture 4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895480" y="3200400"/>
            <a:ext cx="3206880" cy="32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447920" y="28346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ilv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1066680" y="2383920"/>
            <a:ext cx="76359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447920" y="311148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057400" y="23616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Penny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143000" y="60876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penny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5" name="Picture 3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3048120" y="3124080"/>
            <a:ext cx="3457440" cy="331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609480" y="259020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Copper brow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447920" y="53280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color is a nickel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0" name="Picture 4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2666880" y="3048120"/>
            <a:ext cx="361980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447920" y="283284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silv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04920" y="2987640"/>
            <a:ext cx="8342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0" y="227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penny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5" name="Picture 4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2362320" y="2819520"/>
            <a:ext cx="3914640" cy="3757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1066680" y="210420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braham Lincol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304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nickel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1" name="Picture 4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2362320" y="2743200"/>
            <a:ext cx="392436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609480" y="2012400"/>
            <a:ext cx="817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Thomas Jefferso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11206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0" y="22860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quarter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7" name="Picture 5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743200" y="2743200"/>
            <a:ext cx="3664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990720" y="2012400"/>
            <a:ext cx="725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George Washington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85800" y="3042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is coin called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9" name="Picture 8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286000" y="2932200"/>
            <a:ext cx="3962520" cy="392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22788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president is on the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3" name="Picture 4" descr="C:\Documents and Settings\rebecca\My Documents\My Pictures\dime.jpg"/>
          <p:cNvPicPr/>
          <p:nvPr/>
        </p:nvPicPr>
        <p:blipFill>
          <a:blip r:embed="rId1"/>
          <a:stretch/>
        </p:blipFill>
        <p:spPr>
          <a:xfrm>
            <a:off x="2286000" y="2666880"/>
            <a:ext cx="395280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1447920" y="222516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Franklin Roosevelt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914400" y="2927520"/>
            <a:ext cx="715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0" y="1137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any pennies are equal to a nickel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8" name="Picture 3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0" y="4114800"/>
            <a:ext cx="1981080" cy="190188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4"/>
          <p:cNvSpPr/>
          <p:nvPr/>
        </p:nvSpPr>
        <p:spPr>
          <a:xfrm>
            <a:off x="2057400" y="43434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? = 1 (5¢)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0" name="Picture 5" descr="C:\Documents and Settings\rebecca\My Documents\My Pictures\nickel.jpg"/>
          <p:cNvPicPr/>
          <p:nvPr/>
        </p:nvPicPr>
        <p:blipFill>
          <a:blip r:embed="rId2"/>
          <a:stretch/>
        </p:blipFill>
        <p:spPr>
          <a:xfrm>
            <a:off x="6934320" y="4114800"/>
            <a:ext cx="198108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609480" y="532800"/>
            <a:ext cx="78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5 pennie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4" name="Picture 6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1219320" y="525780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1828800" y="36576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C:\Documents and Settings\rebecca\My Documents\My Pictures\penny.jpg"/>
          <p:cNvPicPr/>
          <p:nvPr/>
        </p:nvPicPr>
        <p:blipFill>
          <a:blip r:embed="rId3"/>
          <a:stretch/>
        </p:blipFill>
        <p:spPr>
          <a:xfrm>
            <a:off x="304920" y="365760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C:\Documents and Settings\rebecca\My Documents\My Pictures\penny.jpg"/>
          <p:cNvPicPr/>
          <p:nvPr/>
        </p:nvPicPr>
        <p:blipFill>
          <a:blip r:embed="rId4"/>
          <a:stretch/>
        </p:blipFill>
        <p:spPr>
          <a:xfrm>
            <a:off x="1828800" y="2133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0" descr="C:\Documents and Settings\rebecca\My Documents\My Pictures\penny.jpg"/>
          <p:cNvPicPr/>
          <p:nvPr/>
        </p:nvPicPr>
        <p:blipFill>
          <a:blip r:embed="rId5"/>
          <a:stretch/>
        </p:blipFill>
        <p:spPr>
          <a:xfrm>
            <a:off x="228600" y="213372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1"/>
          <p:cNvSpPr/>
          <p:nvPr/>
        </p:nvSpPr>
        <p:spPr>
          <a:xfrm>
            <a:off x="3733920" y="29718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0" name="Picture 12" descr="C:\Documents and Settings\rebecca\My Documents\My Pictures\nickel.jpg"/>
          <p:cNvPicPr/>
          <p:nvPr/>
        </p:nvPicPr>
        <p:blipFill>
          <a:blip r:embed="rId6"/>
          <a:stretch/>
        </p:blipFill>
        <p:spPr>
          <a:xfrm>
            <a:off x="6019920" y="2819520"/>
            <a:ext cx="182880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1066680" y="-5508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any pennies are equal to a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4" name="Picture 6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533520" y="4495680"/>
            <a:ext cx="1428480" cy="13716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7"/>
          <p:cNvSpPr/>
          <p:nvPr/>
        </p:nvSpPr>
        <p:spPr>
          <a:xfrm>
            <a:off x="2057400" y="46483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? = 1 (10¢)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6" name="Picture 8" descr="C:\Documents and Settings\rebecca\My Documents\My Pictures\dime.jpg"/>
          <p:cNvPicPr/>
          <p:nvPr/>
        </p:nvPicPr>
        <p:blipFill>
          <a:blip r:embed="rId2"/>
          <a:stretch/>
        </p:blipFill>
        <p:spPr>
          <a:xfrm>
            <a:off x="7467480" y="4648320"/>
            <a:ext cx="12002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-1905120" y="-60415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1447920" y="228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10 pennie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1" name="Picture 8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3124080" y="34290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9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3124080" y="51055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0" descr="C:\Documents and Settings\rebecca\My Documents\My Pictures\penny.jpg"/>
          <p:cNvPicPr/>
          <p:nvPr/>
        </p:nvPicPr>
        <p:blipFill>
          <a:blip r:embed="rId3"/>
          <a:stretch/>
        </p:blipFill>
        <p:spPr>
          <a:xfrm>
            <a:off x="3124080" y="1905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1" descr="C:\Documents and Settings\rebecca\My Documents\My Pictures\penny.jpg"/>
          <p:cNvPicPr/>
          <p:nvPr/>
        </p:nvPicPr>
        <p:blipFill>
          <a:blip r:embed="rId4"/>
          <a:stretch/>
        </p:blipFill>
        <p:spPr>
          <a:xfrm>
            <a:off x="1523880" y="50292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2" descr="C:\Documents and Settings\rebecca\My Documents\My Pictures\penny.jpg"/>
          <p:cNvPicPr/>
          <p:nvPr/>
        </p:nvPicPr>
        <p:blipFill>
          <a:blip r:embed="rId5"/>
          <a:stretch/>
        </p:blipFill>
        <p:spPr>
          <a:xfrm>
            <a:off x="1600200" y="34290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3" descr="C:\Documents and Settings\rebecca\My Documents\My Pictures\penny.jpg"/>
          <p:cNvPicPr/>
          <p:nvPr/>
        </p:nvPicPr>
        <p:blipFill>
          <a:blip r:embed="rId6"/>
          <a:stretch/>
        </p:blipFill>
        <p:spPr>
          <a:xfrm>
            <a:off x="1600200" y="1905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4" descr="C:\Documents and Settings\rebecca\My Documents\My Pictures\penny.jpg"/>
          <p:cNvPicPr/>
          <p:nvPr/>
        </p:nvPicPr>
        <p:blipFill>
          <a:blip r:embed="rId7"/>
          <a:stretch/>
        </p:blipFill>
        <p:spPr>
          <a:xfrm>
            <a:off x="0" y="495288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5" descr="C:\Documents and Settings\rebecca\My Documents\My Pictures\penny.jpg"/>
          <p:cNvPicPr/>
          <p:nvPr/>
        </p:nvPicPr>
        <p:blipFill>
          <a:blip r:embed="rId8"/>
          <a:stretch/>
        </p:blipFill>
        <p:spPr>
          <a:xfrm>
            <a:off x="0" y="335268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6" descr="C:\Documents and Settings\rebecca\My Documents\My Pictures\penny.jpg"/>
          <p:cNvPicPr/>
          <p:nvPr/>
        </p:nvPicPr>
        <p:blipFill>
          <a:blip r:embed="rId9"/>
          <a:stretch/>
        </p:blipFill>
        <p:spPr>
          <a:xfrm>
            <a:off x="0" y="1905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7" descr="C:\Documents and Settings\rebecca\My Documents\My Pictures\penny.jpg"/>
          <p:cNvPicPr/>
          <p:nvPr/>
        </p:nvPicPr>
        <p:blipFill>
          <a:blip r:embed="rId10"/>
          <a:stretch/>
        </p:blipFill>
        <p:spPr>
          <a:xfrm>
            <a:off x="0" y="38088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18"/>
          <p:cNvSpPr/>
          <p:nvPr/>
        </p:nvSpPr>
        <p:spPr>
          <a:xfrm>
            <a:off x="5181480" y="33526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2" name="Picture 19" descr="C:\Documents and Settings\rebecca\My Documents\My Pictures\dime.jpg"/>
          <p:cNvPicPr/>
          <p:nvPr/>
        </p:nvPicPr>
        <p:blipFill>
          <a:blip r:embed="rId11"/>
          <a:stretch/>
        </p:blipFill>
        <p:spPr>
          <a:xfrm>
            <a:off x="6781680" y="3200400"/>
            <a:ext cx="1676520" cy="1660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990720" y="2895480"/>
            <a:ext cx="7086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228600" y="30492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any nickels equal a dime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6" name="Picture 6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0" y="4495680"/>
            <a:ext cx="1981080" cy="194328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7"/>
          <p:cNvSpPr/>
          <p:nvPr/>
        </p:nvSpPr>
        <p:spPr>
          <a:xfrm>
            <a:off x="1828800" y="480060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? = 1 (10¢)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8" name="Picture 8" descr="C:\Documents and Settings\rebecca\My Documents\My Pictures\dime.jpg"/>
          <p:cNvPicPr/>
          <p:nvPr/>
        </p:nvPicPr>
        <p:blipFill>
          <a:blip r:embed="rId2"/>
          <a:stretch/>
        </p:blipFill>
        <p:spPr>
          <a:xfrm>
            <a:off x="7238880" y="4495680"/>
            <a:ext cx="1905120" cy="1887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457200" y="144792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676520" y="2286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2 nickels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2" name="Picture 5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762120" y="4267080"/>
            <a:ext cx="2209680" cy="21672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" descr="C:\Documents and Settings\rebecca\My Documents\My Pictures\nickel.jpg"/>
          <p:cNvPicPr/>
          <p:nvPr/>
        </p:nvPicPr>
        <p:blipFill>
          <a:blip r:embed="rId2"/>
          <a:stretch/>
        </p:blipFill>
        <p:spPr>
          <a:xfrm>
            <a:off x="762120" y="1905120"/>
            <a:ext cx="2209680" cy="216684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7"/>
          <p:cNvSpPr/>
          <p:nvPr/>
        </p:nvSpPr>
        <p:spPr>
          <a:xfrm>
            <a:off x="3505320" y="266688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5" name="Picture 8" descr="C:\Documents and Settings\rebecca\My Documents\My Pictures\dime.jpg"/>
          <p:cNvPicPr/>
          <p:nvPr/>
        </p:nvPicPr>
        <p:blipFill>
          <a:blip r:embed="rId3"/>
          <a:stretch/>
        </p:blipFill>
        <p:spPr>
          <a:xfrm>
            <a:off x="5562720" y="2286000"/>
            <a:ext cx="236196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066680" y="2927520"/>
            <a:ext cx="70866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0" y="0"/>
            <a:ext cx="95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this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9" name="Picture 7" descr="C:\Documents and Settings\rebecca\My Documents\My Pictures\penny.jpg"/>
          <p:cNvPicPr/>
          <p:nvPr/>
        </p:nvPicPr>
        <p:blipFill>
          <a:blip r:embed="rId1"/>
          <a:stretch/>
        </p:blipFill>
        <p:spPr>
          <a:xfrm>
            <a:off x="4952880" y="30481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2971800" y="48769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9" descr="C:\Documents and Settings\rebecca\My Documents\My Pictures\penny.jpg"/>
          <p:cNvPicPr/>
          <p:nvPr/>
        </p:nvPicPr>
        <p:blipFill>
          <a:blip r:embed="rId3"/>
          <a:stretch/>
        </p:blipFill>
        <p:spPr>
          <a:xfrm>
            <a:off x="2895480" y="3276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0" descr="C:\Documents and Settings\rebecca\My Documents\My Pictures\penny.jpg"/>
          <p:cNvPicPr/>
          <p:nvPr/>
        </p:nvPicPr>
        <p:blipFill>
          <a:blip r:embed="rId4"/>
          <a:stretch/>
        </p:blipFill>
        <p:spPr>
          <a:xfrm>
            <a:off x="2819520" y="152388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1" descr="C:\Documents and Settings\rebecca\My Documents\My Pictures\penny.jpg"/>
          <p:cNvPicPr/>
          <p:nvPr/>
        </p:nvPicPr>
        <p:blipFill>
          <a:blip r:embed="rId5"/>
          <a:stretch/>
        </p:blipFill>
        <p:spPr>
          <a:xfrm>
            <a:off x="838080" y="495288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C:\Documents and Settings\rebecca\My Documents\My Pictures\penny.jpg"/>
          <p:cNvPicPr/>
          <p:nvPr/>
        </p:nvPicPr>
        <p:blipFill>
          <a:blip r:embed="rId6"/>
          <a:stretch/>
        </p:blipFill>
        <p:spPr>
          <a:xfrm>
            <a:off x="762120" y="327672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3" descr="C:\Documents and Settings\rebecca\My Documents\My Pictures\penny.jpg"/>
          <p:cNvPicPr/>
          <p:nvPr/>
        </p:nvPicPr>
        <p:blipFill>
          <a:blip r:embed="rId7"/>
          <a:stretch/>
        </p:blipFill>
        <p:spPr>
          <a:xfrm>
            <a:off x="762120" y="1523880"/>
            <a:ext cx="142848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219320" y="2560680"/>
            <a:ext cx="63244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905120" y="213372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7 cents or 7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43000" y="283464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dime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033720"/>
            <a:ext cx="624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How much is this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13" name="Picture 5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1143000" y="2514600"/>
            <a:ext cx="1981080" cy="1943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C:\Documents and Settings\rebecca\My Documents\My Pictures\penny.jpg"/>
          <p:cNvPicPr/>
          <p:nvPr/>
        </p:nvPicPr>
        <p:blipFill>
          <a:blip r:embed="rId2"/>
          <a:stretch/>
        </p:blipFill>
        <p:spPr>
          <a:xfrm>
            <a:off x="3581280" y="2514600"/>
            <a:ext cx="205740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286000" y="838080"/>
            <a:ext cx="42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6 cents or 6¢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0" y="914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4" name="Picture 8" descr="C:\Documents and Settings\rebecca\My Documents\My Pictures\quarter.jpg"/>
          <p:cNvPicPr/>
          <p:nvPr/>
        </p:nvPicPr>
        <p:blipFill>
          <a:blip r:embed="rId1"/>
          <a:stretch/>
        </p:blipFill>
        <p:spPr>
          <a:xfrm>
            <a:off x="2895480" y="3514680"/>
            <a:ext cx="328140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533520" y="28360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quarter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228600" y="-152640"/>
            <a:ext cx="8915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What is the name of this coin?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9" name="Picture 7" descr="C:\Documents and Settings\rebecca\My Documents\My Pictures\nickel.jpg"/>
          <p:cNvPicPr/>
          <p:nvPr/>
        </p:nvPicPr>
        <p:blipFill>
          <a:blip r:embed="rId1"/>
          <a:stretch/>
        </p:blipFill>
        <p:spPr>
          <a:xfrm>
            <a:off x="3124080" y="3024360"/>
            <a:ext cx="3581640" cy="351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838080" y="28663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A nickel</a:t>
            </a: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; Eleanor Savko</dc:creator>
  <dc:description/>
  <dc:language>en-US</dc:language>
  <cp:lastModifiedBy>Help Desk</cp:lastModifiedBy>
  <dcterms:modified xsi:type="dcterms:W3CDTF">2010-03-12T17:48:45Z</dcterms:modified>
  <cp:revision>68</cp:revision>
  <dc:subject>Math 5A</dc:subject>
  <dc:title>Math Jeopardy</dc:title>
</cp:coreProperties>
</file>